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19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10.jpeg" ContentType="image/jpeg"/>
  <Override PartName="/ppt/media/image28.png" ContentType="image/png"/>
  <Override PartName="/ppt/media/image38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12.jpeg" ContentType="image/jpeg"/>
  <Override PartName="/ppt/media/image39.png" ContentType="image/png"/>
  <Override PartName="/ppt/media/image13.jpeg" ContentType="image/jpeg"/>
  <Override PartName="/ppt/media/image7.png" ContentType="image/png"/>
  <Override PartName="/ppt/media/image6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C3C-18E9-4756-B5A5-DBF6131C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38F-DDD1-45FC-8CA3-60D2D4CF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4F5-C5DD-420F-99BB-1D0C76F7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F35-5D7E-4013-9D8A-50F8A284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030-C442-4FB9-A47E-E8164187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CFF-C0D7-401B-B700-0AB145AF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68A-9AA0-4274-AFBE-D98FCFAF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A7E-3F4F-4E70-997D-87AF969C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654-9B4C-4AE1-862E-05BB4C66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3D1-A434-4C4C-A881-977DD85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296-8FB7-43B1-ABFF-F9074C37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D17-9BA2-4ED3-93B1-B0593439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B5B0-4CCD-42FD-AB5D-C827D6AA9D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85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Monofylum, parafylum, polyfyl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343240" cy="273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6021000"/>
            <a:ext cx="36734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jamín Ská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Gnathosto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2000" y="467028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940360" y="1628640"/>
            <a:ext cx="1943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Gnathosto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12000" y="467028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084720" y="1052640"/>
            <a:ext cx="18194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Gnathosto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12000" y="467028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84720" y="170028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mitivní skupiny, které postrádají důležitou apomorfii (např. čelisti) jsou často spojovány do jedné skupiny (bez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gnath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, která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ní monofyletick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někdy za účelem lepší přehl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 příklad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iropasí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Symphyta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štíhlopasí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Apocrita)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blanokřídlí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ymenopter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opic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rosimii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šší primát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Anthropo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00720" y="765000"/>
            <a:ext cx="2592360" cy="1971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067280" y="11592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chulmeister, S.: Biological Journal of the Linnean Society, 2003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209-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03640" y="5064120"/>
            <a:ext cx="2232360" cy="167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859280" y="3673440"/>
            <a:ext cx="1873440" cy="1403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00720" y="2205000"/>
            <a:ext cx="2089080" cy="158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9800" y="416880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lořit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Urocer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62880" y="28526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ličat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Cimb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1600" y="57340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čel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A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119700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lat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Rhogog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" y="55897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toun filipínský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Tarsius syrich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6093000"/>
            <a:ext cx="87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dle klasického dělení se řadí k poloopicím, i když má blíže k vyšším primátům (vyšší primáti + nártouni 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aplorhi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46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onofy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ofyletický taxon je skupina zahrnující společného předka a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šech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ho potom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1533600" cy="2028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4836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sat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kari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42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ch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sat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kari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2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ch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1438200" cy="188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27640" y="1197000"/>
            <a:ext cx="333360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31960" y="27082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ingtonocetid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sat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kari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42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ch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1438200" cy="1886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427640" y="1197000"/>
            <a:ext cx="333360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427640" y="0"/>
            <a:ext cx="4716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958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6360" y="1159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rsing, B. M., Slack, K. E., Arnason, U.: Zoologica Scripta, 2000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83-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myzožrav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Insectivora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175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7480" y="6184800"/>
            <a:ext cx="90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uady, Ch. J., Scally, M., Springer, M. S., Stanhope, M. J.: Molecular Phylogenetics and Evolution, 2004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778-7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62520" cy="687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067280" y="638172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tanabe, M. a spol.: Gene, 2006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7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65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720" y="2349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áně les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1440" y="1890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čáp bíl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7440" y="69228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tučňák skal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60000" y="134136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albatros šedohlav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7440" y="1052640"/>
            <a:ext cx="117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tučňák nejmenš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249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05080" y="1844640"/>
            <a:ext cx="10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otápka rohá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3440" y="21337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fregat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1800" y="15573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buřňá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5080" y="2637000"/>
            <a:ext cx="116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okol stěhovav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720" y="292428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otáplice pacifick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970680" y="2421000"/>
            <a:ext cx="2173320" cy="2671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7800" y="3213000"/>
            <a:ext cx="137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ústřičník jihoafrick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076720" y="2349360"/>
            <a:ext cx="2070360" cy="146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85080" y="350028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amenáček pestr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720" y="3789360"/>
            <a:ext cx="117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loboš šedohlav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724360" y="3645000"/>
            <a:ext cx="1689120" cy="2120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36720" y="40766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havran pol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720" y="436572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dovka mal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572000" y="4653000"/>
            <a:ext cx="14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848920" y="5321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79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60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79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684360"/>
            <a:ext cx="770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46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rafy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afyletický taxon je skupina zahrnující společného předka, al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 všech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ho potom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19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lazi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90680" y="1301760"/>
            <a:ext cx="63612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46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lyfy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yfyletický taxon je skupina organismů z různých linií; nezahrnuje společného před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o jako umělé skupiny konvergentních organis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095720"/>
            <a:ext cx="4105440" cy="2762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771480"/>
            <a:ext cx="2203560" cy="168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181560" y="4635360"/>
            <a:ext cx="2962440" cy="222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050920" y="792000"/>
            <a:ext cx="3025800" cy="1974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219640" y="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662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odní ptáci“, „kachny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0880" y="8366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vi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62880" y="8366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iciped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9240" y="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lecan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0160" y="29242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ser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6160" y="48690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u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80680" y="6308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radri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5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9:56:23Z</dcterms:created>
  <dc:creator>Benjamín Skála</dc:creator>
  <dc:description/>
  <dc:language>en-US</dc:language>
  <cp:lastModifiedBy>Benjamín Skála</cp:lastModifiedBy>
  <dcterms:modified xsi:type="dcterms:W3CDTF">2006-10-24T12:45:28Z</dcterms:modified>
  <cp:revision>16</cp:revision>
  <dc:subject/>
  <dc:title>Monofylum, parafylum, polyfylum</dc:title>
</cp:coreProperties>
</file>