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19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10.jpeg" ContentType="image/jpeg"/>
  <Override PartName="/ppt/media/image28.png" ContentType="image/png"/>
  <Override PartName="/ppt/media/image38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12.jpeg" ContentType="image/jpeg"/>
  <Override PartName="/ppt/media/image39.png" ContentType="image/png"/>
  <Override PartName="/ppt/media/image13.jpeg" ContentType="image/jpeg"/>
  <Override PartName="/ppt/media/image7.png" ContentType="image/png"/>
  <Override PartName="/ppt/media/image6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22D-60B1-447C-B3A6-1999554B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111-FD42-4377-9A0C-3ED6F02C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F5B-D001-41B8-912F-CB368CF6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997-CE48-4ED8-9C33-6AC89A4E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84F-8B4C-47CC-A9DD-9C171590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E4A-E33B-40C8-9451-4416AE51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372-9A96-4CE6-82D7-0DC7DBAB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4AF-2B64-463D-8D2E-760E25B7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360-7FC0-470B-928A-04053663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C3C-2254-4FE5-BC60-9F9D717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9D2-2DB4-43BB-B086-B0A30CDA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836-0203-4FCC-A010-77B398C0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5DFE-945A-4C0F-A2AF-FC1E574461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85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Monofylum, parafylum, polyfyl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343240" cy="273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6021000"/>
            <a:ext cx="36734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jamín Ská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940360" y="1628640"/>
            <a:ext cx="1943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084720" y="1052640"/>
            <a:ext cx="18194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84720" y="170028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mitivní skupiny, které postrádají důležitou apomorfii (např. čelisti) jsou často spojovány do jedné skupiny (bez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gnath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, která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ní monofyletick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někdy za účelem lepší přehl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iropas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Symphyta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štíhlopas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Apocrita)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blanokřídl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ymenopte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opic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rosimii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šší primát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Anthropo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2592360" cy="1971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067280" y="11592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chulmeister, S.: Biological Journal of the Linnean Society, 2003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209-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03640" y="5064120"/>
            <a:ext cx="2232360" cy="167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859280" y="3673440"/>
            <a:ext cx="1873440" cy="1403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00720" y="2205000"/>
            <a:ext cx="2089080" cy="158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9800" y="416880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loři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Urocer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62880" y="28526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liča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Cimb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1600" y="5734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čel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A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119700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la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Rhogog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" y="55897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toun filipínský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Tarsius syrich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093000"/>
            <a:ext cx="87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dle klasického dělení se řadí k poloopicím, i když má blíže k vyšším primátům (vyšší primáti + nártouni 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aplorhi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ono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ofyletický taxon je skupina zahrnující společného předka a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šech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ho potom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1533600" cy="2028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1438200" cy="188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27640" y="1197000"/>
            <a:ext cx="333360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31960" y="27082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ingtonocetid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1438200" cy="1886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427640" y="1197000"/>
            <a:ext cx="333360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427640" y="0"/>
            <a:ext cx="4716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958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6360" y="1159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sing, B. M., Slack, K. E., Arnason, U.: Zoologica Scripta, 2000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83-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myzožrav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Insectivora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175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7480" y="6184800"/>
            <a:ext cx="90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uady, Ch. J., Scally, M., Springer, M. S., Stanhope, M. J.: Molecular Phylogenetics and Evolution, 2004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778-7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2520" cy="687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067280" y="638172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anabe, M. a spol.: Gene, 2006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7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65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720" y="2349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áně les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1440" y="1890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čáp bíl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7440" y="69228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tučňák skal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60000" y="134136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albatros šedohl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7440" y="1052640"/>
            <a:ext cx="117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tučňák nejmenš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249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05080" y="1844640"/>
            <a:ext cx="10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otápka rohá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3440" y="21337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fregat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1800" y="15573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buřňá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5080" y="2637000"/>
            <a:ext cx="116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okol stěhov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720" y="292428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otáplice pacifick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970680" y="2421000"/>
            <a:ext cx="2173320" cy="2671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7800" y="3213000"/>
            <a:ext cx="137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ústřičník jihoafrick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076720" y="2349360"/>
            <a:ext cx="2070360" cy="146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85080" y="350028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amenáček pestr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720" y="3789360"/>
            <a:ext cx="117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loboš šedohl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724360" y="3645000"/>
            <a:ext cx="1689120" cy="2120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36720" y="40766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havran pol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720" y="436572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dovka mal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572000" y="4653000"/>
            <a:ext cx="14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848920" y="5321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79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60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79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684360"/>
            <a:ext cx="770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ra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afyletický taxon je skupina zahrnující společného předka, al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 všech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ho potom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19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lazi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90680" y="1301760"/>
            <a:ext cx="63612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ly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yfyletický taxon je skupina organismů z různých linií; nezahrnuje společného před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o jako umělé skupiny konvergentních organis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095720"/>
            <a:ext cx="4105440" cy="276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771480"/>
            <a:ext cx="2203560" cy="168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181560" y="4635360"/>
            <a:ext cx="2962440" cy="222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050920" y="792000"/>
            <a:ext cx="3025800" cy="1974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219640" y="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662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odní ptáci“, „kachny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0880" y="8366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vi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62880" y="8366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iciped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9240" y="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lecan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0160" y="29242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ser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6160" y="48690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u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80680" y="6308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radri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5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9:56:23Z</dcterms:created>
  <dc:creator>Benjamín Skála</dc:creator>
  <dc:description/>
  <dc:language>en-US</dc:language>
  <cp:lastModifiedBy>Benjamín Skála</cp:lastModifiedBy>
  <dcterms:modified xsi:type="dcterms:W3CDTF">2006-10-24T12:45:28Z</dcterms:modified>
  <cp:revision>16</cp:revision>
  <dc:subject/>
  <dc:title>Monofylum, parafylum, polyfylum</dc:title>
</cp:coreProperties>
</file>