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image19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10.jpeg" ContentType="image/jpeg"/>
  <Override PartName="/ppt/media/image28.png" ContentType="image/png"/>
  <Override PartName="/ppt/media/image38.jpeg" ContentType="image/jpeg"/>
  <Override PartName="/ppt/media/image11.jpeg" ContentType="image/jpeg"/>
  <Override PartName="/ppt/media/image9.jpeg" ContentType="image/jpeg"/>
  <Override PartName="/ppt/media/image40.png" ContentType="image/png"/>
  <Override PartName="/ppt/media/image20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12.jpeg" ContentType="image/jpeg"/>
  <Override PartName="/ppt/media/image39.png" ContentType="image/png"/>
  <Override PartName="/ppt/media/image13.jpeg" ContentType="image/jpeg"/>
  <Override PartName="/ppt/media/image7.png" ContentType="image/png"/>
  <Override PartName="/ppt/media/image6.png" ContentType="image/png"/>
  <Override PartName="/ppt/media/image34.wmf" ContentType="image/x-wmf"/>
  <Override PartName="/ppt/media/image4.wmf" ContentType="image/x-wmf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4BB-50AF-41FD-B03A-17813D1E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9A6-9976-4F62-B441-DA911903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19C-EF6D-4D7B-B57D-64B6489F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038-C2D0-46B1-8BC4-26D9C15FA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3CC-2D4C-44A0-ABCE-E5610C6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64F-BEDC-4827-B0F9-11A7A87E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9D5-C264-4B9F-A511-1AE29007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66C4-F248-4A1E-B2FD-69550170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054-4EA3-4055-96A6-C5C2C172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16C-91D1-4465-9C76-F02EB223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C66-9FE2-4DE9-8487-D8D8CCFE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1AE-F7E6-4970-B262-25B71E73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4FAB-5196-405C-9BA5-9F9CD78D4FD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200" spc="-1" strike="noStrike">
                <a:solidFill>
                  <a:srgbClr val="000000"/>
                </a:solidFill>
                <a:latin typeface="Arial"/>
              </a:rPr>
              <a:t>Monofylum, parafylum, polyfyl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343240" cy="273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6021000"/>
            <a:ext cx="3673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940360" y="1628640"/>
            <a:ext cx="1943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084720" y="1052640"/>
            <a:ext cx="18194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289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iznatk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Myxi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hul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etromyzo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Gnathostom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2527200" cy="1892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48000" y="4016520"/>
            <a:ext cx="2592360" cy="2468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012000" y="467028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084720" y="1700280"/>
            <a:ext cx="1600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mitivní skupiny, které postrádají důležitou apomorfii (např. čelisti) jsou často spojovány do jedné skupiny (bezčelistnatc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gnath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, která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ní monofyletick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někdy za účelem lepší přehl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ir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mphyta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štíhlopas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pocrita)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blanokřídlí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ymenopte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opice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Prosimii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šší primáti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Anthropo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67280" y="11592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ulmeister, S.: Biological Journal of the Linnean Society, 2003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209-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03640" y="5064120"/>
            <a:ext cx="2232360" cy="167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859280" y="3673440"/>
            <a:ext cx="1873440" cy="14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00720" y="2205000"/>
            <a:ext cx="2089080" cy="158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9800" y="416880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oři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Urocer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62880" y="28526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ič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Cimb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1600" y="57340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čel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A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119700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ilatk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Rhogog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" y="55897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toun filipínsk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arsius syrich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093000"/>
            <a:ext cx="87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dle klasického dělení se řadí k poloopicím, i když má blíže k vyšším primátům (vyšší primáti + nártouni 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aplorhin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ono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ofyletický taxon je skupina zahrnující společného předka a 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71636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1533600" cy="2028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31960" y="270828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mingtonocetid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okopytní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rtiodacty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125748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1928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blo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47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žvýk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sat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kari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422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ochov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708360" y="2708280"/>
            <a:ext cx="1438200" cy="1886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427640" y="1197000"/>
            <a:ext cx="3333600" cy="2057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427640" y="0"/>
            <a:ext cx="47163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958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16360" y="1159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rsing, B. M., Slack, K. E., Arnason, U.: Zoologica Scripta, 2000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83-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alší parafyletické tax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myzožravci 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Insectivora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175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7480" y="618480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uady, Ch. J., Scally, M., Springer, M. S., Stanhope, M. J.: Molecular Phylogenetics and Evolution, 2004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778-7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62520" cy="687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067280" y="638172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anabe, M. a spol.: Gene, 2006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7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65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720" y="2349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áně les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01440" y="189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čáp bíl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7440" y="69228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ska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0000" y="1341360"/>
            <a:ext cx="132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albatros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7440" y="105264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učňák nejmenš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249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05080" y="1844640"/>
            <a:ext cx="10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ka rohá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3440" y="2133720"/>
            <a:ext cx="67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fregat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1800" y="155736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buřňá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5080" y="2637000"/>
            <a:ext cx="116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okol stěhov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720" y="2924280"/>
            <a:ext cx="131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táplice pacifick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970680" y="2421000"/>
            <a:ext cx="2173320" cy="2671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7800" y="3213000"/>
            <a:ext cx="137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ústřičník jihoafrick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076720" y="2349360"/>
            <a:ext cx="207036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485080" y="350028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kamenáček pestr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720" y="3789360"/>
            <a:ext cx="117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loboš šedohlav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5724360" y="3645000"/>
            <a:ext cx="1689120" cy="2120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6720" y="40766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havran pol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720" y="4365720"/>
            <a:ext cx="93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dovka mal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4572000" y="4653000"/>
            <a:ext cx="1409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848920" y="5321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60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79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5640" y="684360"/>
            <a:ext cx="770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ra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afyletický taxon je skupina zahrnující společného předka, al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ne všechn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ho potom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2924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19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lazi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90680" y="1301760"/>
            <a:ext cx="6361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92720" y="328464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46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lyfy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yfyletický taxon je skupina organismů z různých linií; nezahrnuje společného před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o jako umělé skupiny konvergentních organis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4095720"/>
            <a:ext cx="4105440" cy="2762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771480"/>
            <a:ext cx="2203560" cy="168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81560" y="4635360"/>
            <a:ext cx="2962440" cy="2222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050920" y="792000"/>
            <a:ext cx="3025800" cy="1974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219640" y="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odní ptáci“, „kachny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0880" y="8366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v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62880" y="8366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iciped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9240" y="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lecan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0160" y="29242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ser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6160" y="486900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u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80680" y="6308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aradrii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35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56:23Z</dcterms:created>
  <dc:creator>Benjamín Skála</dc:creator>
  <dc:description/>
  <dc:language>en-US</dc:language>
  <cp:lastModifiedBy>Benjamín Skála</cp:lastModifiedBy>
  <dcterms:modified xsi:type="dcterms:W3CDTF">2006-10-24T12:45:28Z</dcterms:modified>
  <cp:revision>16</cp:revision>
  <dc:subject/>
  <dc:title>Monofylum, parafylum, polyfylum</dc:title>
</cp:coreProperties>
</file>