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png" ContentType="image/png"/>
  <Override PartName="/ppt/media/image11.wmf" ContentType="image/x-wmf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CE3-2051-4ECD-A53C-C1581C00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FDB1-767F-4D10-BDEE-4B6E01C7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DE5-B7EE-4532-A79D-E9801DA3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EDF-904F-4DC7-AE51-EBCD39D6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081-D7DD-472A-9D6A-9F4A382D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285-0BA2-4A8E-A5EF-55EB270A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7C6-3976-4125-8F64-DBAB6536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16E-B528-4026-AA5A-17FF24AD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A9D-63DB-4152-BE38-BFFB62C6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C50-D27E-4B74-8DC2-0ED891FA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357-2027-47C5-8C28-B8311A56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5A4-6D6E-4E07-A383-CC1149A6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8AAA-1CB5-4303-8679-3B6F118E464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856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Rhombozoa, Orthonec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343240" cy="273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35280" y="6021000"/>
            <a:ext cx="36734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jamín Ská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421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Mesozo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848920" y="5321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76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thonecta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Orthonect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azitické stadium (u kroužkovců, měkkýšů apod.) a volně žijící pohyblivé sta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 čeledi, 5 rodů, 30 druh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saní roku 18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292800" y="2565360"/>
            <a:ext cx="28512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Rhombozoa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Dicyem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aziti hlavonož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mají svalová vlákna ani kutiku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lem 50 pokožkových buněk obklopuje jednu dlouhu vnitřní buň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čeledi, 7 rodů, 70 druh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saní roku 183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7640" y="4476600"/>
            <a:ext cx="3219480" cy="2381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8640" y="0"/>
            <a:ext cx="2295360" cy="136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580000" y="0"/>
            <a:ext cx="1170000" cy="1728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751360" y="3357720"/>
            <a:ext cx="3392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2_01a" descr=""/>
          <p:cNvPicPr/>
          <p:nvPr/>
        </p:nvPicPr>
        <p:blipFill>
          <a:blip r:embed="rId1"/>
          <a:stretch/>
        </p:blipFill>
        <p:spPr>
          <a:xfrm>
            <a:off x="2124000" y="230040"/>
            <a:ext cx="489276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7800" cy="7029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81800" y="11592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ruya, H., Tsuneki, K.: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oblémy s Mesoz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sou Mesozoa monofyl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sou Orthonecta a Rhombozoa sesterské skupi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m patří v systému živočichů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93080" cy="6818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346440" y="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wlowski, J. a kol.: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38360" y="56844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S r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769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14360" y="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anelt, B. a kol.: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33680" y="476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S r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4948200" cy="1263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26240" y="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rzavý, J. a kol.: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9:40:14Z</dcterms:created>
  <dc:creator>Benjamín Skála</dc:creator>
  <dc:description/>
  <dc:language>en-US</dc:language>
  <cp:lastModifiedBy>Benjamín Skála</cp:lastModifiedBy>
  <dcterms:modified xsi:type="dcterms:W3CDTF">2007-01-10T12:29:25Z</dcterms:modified>
  <cp:revision>4</cp:revision>
  <dc:subject/>
  <dc:title>Rhombozoa, Orthonecta</dc:title>
</cp:coreProperties>
</file>