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F23-597F-4A43-BA6E-025EC314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CCF-801F-4B5C-AFBC-57CAEC3E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06D-10EE-4188-864F-8D84C613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D6D-0185-4BFB-BFB8-1F0B38B8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1AC7-C934-4034-B4A7-F104B0BE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64B-490C-4F18-9022-26D278FF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C67-728F-4220-BBD3-3D1EC48F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6A3-6E40-492C-ADB4-A4A7A2DC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F5B-308A-48A4-BFF2-0D90E101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5F5-262D-45DC-8AE0-0668674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BBB-1B55-49E6-9588-82E275B5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899-4325-4BD6-8386-18A5C765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1F5-8A4D-4B31-8746-67DA27327B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856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000000"/>
                </a:solidFill>
                <a:latin typeface="Arial"/>
              </a:rPr>
              <a:t>Kulturní evoluc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343240" cy="273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6021000"/>
            <a:ext cx="36734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jamín Ská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86040" y="81000"/>
            <a:ext cx="537192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848920" y="532116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4165560"/>
            <a:ext cx="5238720" cy="2692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13320" y="692280"/>
            <a:ext cx="4630680" cy="6064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830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0200" cy="325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22100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čené krysy hryžou šišky od konce, což je na první pohled obtížnější, ale získají tak více semen, než krysy, které hryžou šišky od špič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to poučenost se předává od matky na potomky a je známá pouze z Izraele a nověji z Kyp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ypr je od Izraele poměrně daleko (a přes moře), takže to vypadá, že na tento způsob žraní šišek přišly nezávisle na sobě dvě krysí babič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001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4010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48000" y="3591000"/>
            <a:ext cx="6696000" cy="3267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638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fín skákav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189000"/>
            <a:ext cx="381636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lfíni si při vyhledávání potravy nasazují na hlavu mořské houby, aby si ochránili rostrum před útokem jedovatých nebo pichlavých živočichů, kteří se skrývají na mořském d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pongi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oužívají hlavně samice a fylogenetické analýzy (mtDNA) ukázaly, že vznikl jen jednou v histo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749760" y="2811600"/>
            <a:ext cx="5394240" cy="4046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121440" cy="3684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203880" y="2421000"/>
            <a:ext cx="29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yngnathus leptorhync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8880" y="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yngnathus typh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573360"/>
            <a:ext cx="37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mci i samice dávají přednost větším jedincům opačného pohla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mci upřednostňují neparazitované sam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mice upřednostňují samce s větším zduřelým váčkem na plůd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 má obrácené role: samice si intenzivněji konkurují o samce a samci jsou více nároční na sam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09880" y="762120"/>
            <a:ext cx="5124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33560" y="1143000"/>
            <a:ext cx="5276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9:56:23Z</dcterms:created>
  <dc:creator>Benjamín Skála</dc:creator>
  <dc:description/>
  <dc:language>en-US</dc:language>
  <cp:lastModifiedBy>Benjamín Skála</cp:lastModifiedBy>
  <dcterms:modified xsi:type="dcterms:W3CDTF">2007-04-24T15:02:23Z</dcterms:modified>
  <cp:revision>26</cp:revision>
  <dc:subject/>
  <dc:title>Monofylum, parafylum, polyfylum</dc:title>
</cp:coreProperties>
</file>