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A0D-9058-43E2-AF85-304E3369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A32-60FD-4E21-AAD2-F14FAABE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4A6-7BEC-4188-B6CA-FE1412D7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8B3-094E-48C3-AC0D-E275D7FA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DE8-392E-4675-A5FD-C469F9D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A12-F18E-4703-AF2E-F42C3F00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DB2-9672-4238-AD57-07A4211A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C1C-B5DC-47E3-A688-B9FDF178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17E-0102-4A8B-B91A-8B2E44AE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F3B-564D-4648-8F92-952A686D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E36-16A9-44B8-9F7F-3E695316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5C5-7AA8-42B0-9D4D-E639A1FB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760-F9D9-4449-830C-4362D3AF07D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olekulární fylogenetika primárních endosymbiontů hmyzu</a:t>
            </a: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njamín Ská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doucí práce: Václav Hypš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6520" y="404640"/>
            <a:ext cx="13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je podmínkou toho, aby mohli být P-endosymbionti hmyzu označeni jako organely? Existují skutečně důkazy, že již organelami nejsou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te, že duplikace genomů bakterií způsobují vznik paralogů a tak mohou zapříčinit špatnou topologii stromů. Prosím blíže a podrobně vysvět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č se odhad množství genů získaných prostřednictvím horizontálního přenosu genů (HGT) u různých autorů tak výrazně liší? (nepatrný počet až 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6520" y="404640"/>
            <a:ext cx="13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je podmínkou toho, aby mohli být P-endosymbionti hmyzu označeni jako organely? Existují skutečně důkazy, že již organelami nejsou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te, že duplikace genomů bakterií způsobují vznik paralogů a tak mohou zapříčinit špatnou topologii stromů. Prosím blíže a podrobně vysvět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č se odhad množství genů získaných prostřednictvím HGT u různých autorů tak výrazně liší? (nepatrný počet až 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je to nehomogenní (substituční) model? Vysvět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6520" y="404640"/>
            <a:ext cx="13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je podmínkou toho, aby mohli být P-endosymbionti hmyzu označeni jako organely? Existují skutečně důkazy, že již organelami nejsou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te, že duplikace genomů bakterií způsobují vznik paralogů a tak mohou zapříčinit špatnou topologii stromů. Prosím blíže a podrobně vysvět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č se odhad množství genů získaných prostřednictvím HGT u různých autorů tak výrazně liší? (nepatrný počet až 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je to nehomogenní (substituční) model? Vysvět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é symbiotické „houbovité organismy“ byly nalezeny u mš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409920" cy="4905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167240" y="5229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et-Mul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5080" y="136440"/>
            <a:ext cx="415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které mšice tribu Cerataphid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 tzv. YLS – yeast-like symbi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řeckovýtrusné houby (Ascomycot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rdar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80504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71600" y="522936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ypomyces lactifluo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0160" y="139680"/>
            <a:ext cx="4400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Endosymbionti hmyz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kterie žijící v tělních buň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mární X sekundár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5446800" cy="2901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43240" y="6165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an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689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6520" y="355680"/>
            <a:ext cx="3391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-endosymbiont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tualistický vztah s hostit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rtikální př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dukce gen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evoluce s hostit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Buchner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Wigglesworthi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Blochman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01224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240" y="355680"/>
            <a:ext cx="4830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olekulární fylogenetik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ologické 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ý obsah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enciální horizontální přenos g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buzenské vztahy jsou zatím nejas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27514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586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0360" y="6093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oEL Herbeck et al.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6520" y="404640"/>
            <a:ext cx="13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je podmínkou toho, aby mohli být P-endosymbionti hmyzu označeni jako organely? Existují skutečně důkazy, že již organelami nejsou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6520" y="404640"/>
            <a:ext cx="136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je podmínkou toho, aby mohli být P-endosymbionti hmyzu označeni jako organely? Existují skutečně důkazy, že již organelami nejsou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te, že duplikace genomů bakterií způsobují vznik paralogů a tak mohou zapříčinit špatnou topologii stromů. Prosím blíže a podrobně vysvět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55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27240" y="39337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legr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6:28:24Z</dcterms:created>
  <dc:creator>Benjamín Skála</dc:creator>
  <dc:description/>
  <dc:language>en-US</dc:language>
  <cp:lastModifiedBy>Benjamín Skála</cp:lastModifiedBy>
  <dcterms:modified xsi:type="dcterms:W3CDTF">2009-06-01T23:32:26Z</dcterms:modified>
  <cp:revision>17</cp:revision>
  <dc:subject/>
  <dc:title>Molekulární fylogenetika primárních endosymbiontů hmyzu  </dc:title>
</cp:coreProperties>
</file>