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6D1-CF2B-4CDD-B488-9FA4349B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AE1-922D-4AF5-93AE-1AB470A1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387-FD7A-4652-B1CC-C447DB1F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FC-1E47-494D-ACF0-9A0F323A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4EC-F507-4B0F-A453-8AA3BFB2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3A5-6B0C-482A-A1E2-667F2A9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07A-01E7-4822-9584-3648498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2BF-D580-4D48-A735-31D5025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A98-9C94-4D53-9DC8-09E41DD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CF0-FAA7-4036-AA74-D6BB9B8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59A-6C10-4F0C-935B-19A522C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A8D-497B-4B92-A9B4-3FC3F49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5EA-E6D9-4076-AB38-1D01DF8F5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fáze (časná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(každý sestává ze 2 chromatid) kondenzují. Vně jádra se tvoří mitotické vřeténko mezi dvěma centrozomy, jež se replikovaly a pohybují se od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8992" r="0" b="8958"/>
          <a:stretch/>
        </p:blipFill>
        <p:spPr>
          <a:xfrm>
            <a:off x="755640" y="2100240"/>
            <a:ext cx="7056360" cy="464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40720" y="206064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73240"/>
            <a:ext cx="8675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6000" y="6524640"/>
            <a:ext cx="86756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metafáze (pozdní profáz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íná rozpadem jaderného obalu. Chromozomy se nyní mohou připojit k mikrotubulům vřeténka svými kinetochory a zahájit aktivní pohy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2920" y="3645000"/>
            <a:ext cx="8893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Metafá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584" r="2707" b="6717"/>
          <a:stretch/>
        </p:blipFill>
        <p:spPr>
          <a:xfrm>
            <a:off x="1692360" y="2523960"/>
            <a:ext cx="6624720" cy="429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720" y="1125360"/>
            <a:ext cx="834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jsou srovnány v ekvatoriální rovině vřetén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rostřed mezi jeho póly. Párové kinetochorové mikrotubu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každém chromozomu jsou připojeny k opačným pólů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řetén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Anafá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81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árové chromatidy se synchronně oddělují od sebe a tvoří dva dceřinné chromozomy, přičemž je každý z nich pomalu tažen k pólu svého vřeténka. Kinetochorové mikrotubuly se zkracují a póly se oddalují, což obojí přispívá k separaci chromozo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2925720"/>
            <a:ext cx="7345440" cy="395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924280"/>
            <a:ext cx="3492360" cy="39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Detail rýhování žabího vajíč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9400" y="1270080"/>
          <a:ext cx="34880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1270080"/>
                    <a:ext cx="34880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1341360"/>
          <a:ext cx="4608360" cy="408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341360"/>
                    <a:ext cx="460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47:28Z</dcterms:created>
  <dc:creator>Dr.Michal Žurovec</dc:creator>
  <dc:description/>
  <dc:language>en-US</dc:language>
  <cp:lastModifiedBy>Benjamín Skála</cp:lastModifiedBy>
  <dcterms:modified xsi:type="dcterms:W3CDTF">2005-11-29T23:09:36Z</dcterms:modified>
  <cp:revision>29</cp:revision>
  <dc:subject/>
  <dc:title>Prezentace aplikace PowerPoint</dc:title>
</cp:coreProperties>
</file>