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1BDB-809F-4AB9-8E7A-1D5526802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BAC4-CCC3-4770-8003-06DFF07A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AE18-98EA-4F53-B71B-E43805FA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86C3-B2E0-4F42-91E1-354405792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CD0A-174F-4DD0-8538-9668C440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DCB8-C9E2-423C-9069-781C710B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3839-A51F-41C9-96A9-D40035AD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F697-B393-4F73-BC90-2C3858F2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4CCF-11C6-4C39-867F-7A61DD47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937E-30D3-48BD-B80D-72621969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AB58-B0BA-4DBC-A051-F5A6CC48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5942-B4BA-4C4D-8A96-4A2E9C37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FE96-F517-495B-86C0-535170E7FA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Profáze (časná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8642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hromozomy (každý sestává ze 2 chromatid) kondenzují. Vně jádra se tvoří mitotické vřeténko mezi dvěma centrozomy, jež se replikovaly a pohybují se od se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8992" r="0" b="8958"/>
          <a:stretch/>
        </p:blipFill>
        <p:spPr>
          <a:xfrm>
            <a:off x="755640" y="2100240"/>
            <a:ext cx="7056360" cy="4646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740720" y="2060640"/>
            <a:ext cx="431640" cy="475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1989000"/>
            <a:ext cx="431640" cy="475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989000"/>
            <a:ext cx="431640" cy="475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073240"/>
            <a:ext cx="867564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6000" y="6524640"/>
            <a:ext cx="8675640" cy="21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Prometafáze (pozdní profáz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číná rozpadem jaderného obalu. Chromozomy se nyní mohou připojit k mikrotubulům vřeténka svými kinetochory a zahájit aktivní pohy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2920" y="3645000"/>
            <a:ext cx="889308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Metafáz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1584" r="2707" b="6717"/>
          <a:stretch/>
        </p:blipFill>
        <p:spPr>
          <a:xfrm>
            <a:off x="1692360" y="2523960"/>
            <a:ext cx="6624720" cy="4297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720" y="1125360"/>
            <a:ext cx="834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hromozomy jsou srovnány v ekvatoriální rovině vřeténk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prostřed mezi jeho póly. Párové kinetochorové mikrotubu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a každém chromozomu jsou připojeny k opačným pólů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řeténk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Anafá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98100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árové chromatidy se synchronně oddělují od sebe a tvoří dva dceřinné chromozomy, přičemž je každý z nich pomalu tažen k pólu svého vřeténka. Kinetochorové mikrotubuly se zkracují a póly se oddalují, což obojí přispívá k separaci chromozom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2925720"/>
            <a:ext cx="7345440" cy="3954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2924280"/>
            <a:ext cx="3492360" cy="3933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Detail rýhování žabího vajíčk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189400" y="1270080"/>
          <a:ext cx="348804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9400" y="1270080"/>
                    <a:ext cx="348804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24000" y="1341360"/>
          <a:ext cx="4608360" cy="408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1341360"/>
                    <a:ext cx="4608360" cy="40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20072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14:47:28Z</dcterms:created>
  <dc:creator>Dr.Michal Žurovec</dc:creator>
  <dc:description/>
  <dc:language>en-US</dc:language>
  <cp:lastModifiedBy>Benjamín Skála</cp:lastModifiedBy>
  <dcterms:modified xsi:type="dcterms:W3CDTF">2005-11-29T23:09:36Z</dcterms:modified>
  <cp:revision>29</cp:revision>
  <dc:subject/>
  <dc:title>Prezentace aplikace PowerPoint</dc:title>
</cp:coreProperties>
</file>