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1BEB-B686-41C4-8D90-481D4D05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D66D-7FC6-4EB6-AA46-61BB675C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3EDA-FF44-4AC2-B8D1-FFEFFAFA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C61C-1126-4248-9A7C-44508C45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0706-A321-4563-BF57-C58C1DEE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2980-DA2E-49CB-9BE1-D643533D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06B1-8FB3-433C-B58E-480D0A51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2FE-62C9-4FFF-86FB-47BBF2D6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134-8D8B-448F-8448-513113C5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8CE-714B-4B38-BA00-656DBDC9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82E9-A9D5-443E-9198-66A6AB78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527D-B427-4D7B-8B0B-F7DE827A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8991-6513-47DF-9E6E-B94A6F19CB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Profáze (časná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642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hromozomy (každý sestává ze 2 chromatid) kondenzují. Vně jádra se tvoří mitotické vřeténko mezi dvěma centrozomy, jež se replikovaly a pohybují se od se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8992" r="0" b="8958"/>
          <a:stretch/>
        </p:blipFill>
        <p:spPr>
          <a:xfrm>
            <a:off x="755640" y="2100240"/>
            <a:ext cx="7056360" cy="4646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740720" y="2060640"/>
            <a:ext cx="431640" cy="475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989000"/>
            <a:ext cx="431640" cy="475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989000"/>
            <a:ext cx="431640" cy="475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073240"/>
            <a:ext cx="867564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6000" y="6524640"/>
            <a:ext cx="8675640" cy="21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Prometafáze (pozdní profáz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číná rozpadem jaderného obalu. Chromozomy se nyní mohou připojit k mikrotubulům vřeténka svými kinetochory a zahájit aktivní pohy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2920" y="3645000"/>
            <a:ext cx="889308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Metafá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1584" r="2707" b="6717"/>
          <a:stretch/>
        </p:blipFill>
        <p:spPr>
          <a:xfrm>
            <a:off x="1692360" y="2523960"/>
            <a:ext cx="6624720" cy="429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720" y="1125360"/>
            <a:ext cx="834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hromozomy jsou srovnány v ekvatoriální rovině vřeténk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prostřed mezi jeho póly. Párové kinetochorové mikrotubu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a každém chromozomu jsou připojeny k opačným pólů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řetén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Anafá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981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árové chromatidy se synchronně oddělují od sebe a tvoří dva dceřinné chromozomy, přičemž je každý z nich pomalu tažen k pólu svého vřeténka. Kinetochorové mikrotubuly se zkracují a póly se oddalují, což obojí přispívá k separaci chromozom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2925720"/>
            <a:ext cx="7345440" cy="395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2924280"/>
            <a:ext cx="3492360" cy="39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Detail rýhování žabího vajíč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189400" y="1270080"/>
          <a:ext cx="348804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9400" y="1270080"/>
                    <a:ext cx="34880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24000" y="1341360"/>
          <a:ext cx="4608360" cy="408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341360"/>
                    <a:ext cx="46083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4:47:28Z</dcterms:created>
  <dc:creator>Dr.Michal Žurovec</dc:creator>
  <dc:description/>
  <dc:language>en-US</dc:language>
  <cp:lastModifiedBy>Benjamín Skála</cp:lastModifiedBy>
  <dcterms:modified xsi:type="dcterms:W3CDTF">2005-11-29T23:09:36Z</dcterms:modified>
  <cp:revision>29</cp:revision>
  <dc:subject/>
  <dc:title>Prezentace aplikace PowerPoint</dc:title>
</cp:coreProperties>
</file>