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76D-CBFA-40A3-B827-E75A27E6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6C6-A535-4B6B-85F6-F289CD46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881-254A-4606-87A2-8291BDEB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D5A0-8FDE-4A7D-99A2-18019F7B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9E6F-58BE-4188-8FE6-44D111FE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9D5-37FF-4FBC-A76A-0132525B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AA89-95E1-4FA2-A3E6-B8D148F0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CF4-AF15-416E-8708-75CDAE47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1A82-3202-457C-864D-B8A2D1B5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45BC-6801-4EA5-A7A2-1A44DE5A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3454-B84C-495A-99F1-97D62EE8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20A-075C-4506-ABF6-56D58F56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894D-A419-41A8-9066-0F5E3F7E72D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1.wmf"/><Relationship Id="rId1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versi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914400"/>
            <a:ext cx="2895480" cy="3124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914400"/>
            <a:ext cx="2895480" cy="31240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979560" cy="52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979560" cy="520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48120" y="1143000"/>
            <a:ext cx="979200" cy="520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295280" y="2362320"/>
            <a:ext cx="979560" cy="520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362320" y="2057400"/>
            <a:ext cx="979200" cy="520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971800" y="3352680"/>
            <a:ext cx="979560" cy="520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1523880" y="3048120"/>
            <a:ext cx="979560" cy="520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6172200" y="2438280"/>
            <a:ext cx="979560" cy="520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876920" y="1219320"/>
            <a:ext cx="979200" cy="520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2514600" y="2514600"/>
            <a:ext cx="933480" cy="743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6553080" y="3124080"/>
            <a:ext cx="933480" cy="743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4876920" y="1981080"/>
            <a:ext cx="933480" cy="743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2286000" y="1143000"/>
            <a:ext cx="949320" cy="782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5105520" y="2895480"/>
            <a:ext cx="949320" cy="782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5943600" y="1523880"/>
            <a:ext cx="949320" cy="782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6477120" y="1143000"/>
            <a:ext cx="979200" cy="52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43000" y="4800600"/>
                <a:ext cx="280044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pso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14400" y="5797440"/>
                <a:ext cx="33526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´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S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57200" y="4343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i - relativní zastoupení dru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6172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annonův index d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487692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sonův index dominan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Diversita=1/Simps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315200" y="457200"/>
            <a:ext cx="76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e zde větš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3:39:54Z</dcterms:created>
  <dc:creator>Jan Leps</dc:creator>
  <dc:description/>
  <dc:language>en-US</dc:language>
  <cp:lastModifiedBy>Benjamín Skála</cp:lastModifiedBy>
  <dcterms:modified xsi:type="dcterms:W3CDTF">2005-11-21T18:56:48Z</dcterms:modified>
  <cp:revision>10</cp:revision>
  <dc:subject/>
  <dc:title>Ekologie společenstev</dc:title>
</cp:coreProperties>
</file>