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DA93-BCFD-495E-AA31-9BA341B1C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9C36-0455-4A17-817E-AEF36B9FD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2D1E-1634-4C6F-B700-6858C8A4D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D5A4-EFBE-4691-B0FB-9EDD4FF6E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C4CB-F803-4F31-B59B-9B1D886FA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D2B5-D352-4B7A-A9BB-6C40514F5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FD0F-11AB-4585-84B0-11B8F898F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C072-6802-487E-B1F4-D2EE6E506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5DE5-A08F-4DCE-A653-05B07BB09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268A-4A67-4D42-810D-73FBABE2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3F31-EEC6-40D6-8246-0D4F7BC9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1EDD-A045-4DE4-82A9-4A3FA82F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A285A-4200-4598-BF75-CE31952466F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1.wmf"/><Relationship Id="rId17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Diversi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914400"/>
            <a:ext cx="2895480" cy="31240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914400"/>
            <a:ext cx="2895480" cy="31240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979560" cy="52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371600" y="1676520"/>
            <a:ext cx="979560" cy="520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048120" y="1143000"/>
            <a:ext cx="979200" cy="520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1295280" y="2362320"/>
            <a:ext cx="979560" cy="520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2362320" y="2057400"/>
            <a:ext cx="979200" cy="520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2971800" y="3352680"/>
            <a:ext cx="979560" cy="520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1523880" y="3048120"/>
            <a:ext cx="979560" cy="520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6172200" y="2438280"/>
            <a:ext cx="979560" cy="520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4876920" y="1219320"/>
            <a:ext cx="979200" cy="520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0"/>
          <a:stretch/>
        </p:blipFill>
        <p:spPr>
          <a:xfrm>
            <a:off x="2514600" y="2514600"/>
            <a:ext cx="933480" cy="743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1"/>
          <a:stretch/>
        </p:blipFill>
        <p:spPr>
          <a:xfrm>
            <a:off x="6553080" y="3124080"/>
            <a:ext cx="933480" cy="743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2"/>
          <a:stretch/>
        </p:blipFill>
        <p:spPr>
          <a:xfrm>
            <a:off x="4876920" y="1981080"/>
            <a:ext cx="933480" cy="7430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3"/>
          <a:stretch/>
        </p:blipFill>
        <p:spPr>
          <a:xfrm>
            <a:off x="2286000" y="1143000"/>
            <a:ext cx="949320" cy="782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4"/>
          <a:stretch/>
        </p:blipFill>
        <p:spPr>
          <a:xfrm>
            <a:off x="5105520" y="2895480"/>
            <a:ext cx="949320" cy="782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5"/>
          <a:stretch/>
        </p:blipFill>
        <p:spPr>
          <a:xfrm>
            <a:off x="5943600" y="1523880"/>
            <a:ext cx="949320" cy="782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6"/>
          <a:stretch/>
        </p:blipFill>
        <p:spPr>
          <a:xfrm>
            <a:off x="6477120" y="1143000"/>
            <a:ext cx="979200" cy="52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43000" y="4800600"/>
                <a:ext cx="2800440" cy="11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mpson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S</m:t>
                        </m:r>
                      </m:sup>
                      <m:e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914400" y="5797440"/>
                <a:ext cx="335268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´</m:t>
                    </m:r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S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457200" y="43434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i - relativní zastoupení druh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95680" y="61722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hannonův index divers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19720" y="4876920"/>
            <a:ext cx="4343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sonův index dominan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(Diversita=1/Simps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7315200" y="457200"/>
            <a:ext cx="7632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je zde větš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9T13:39:54Z</dcterms:created>
  <dc:creator>Jan Leps</dc:creator>
  <dc:description/>
  <dc:language>en-US</dc:language>
  <cp:lastModifiedBy>Benjamín Skála</cp:lastModifiedBy>
  <dcterms:modified xsi:type="dcterms:W3CDTF">2005-11-21T18:56:48Z</dcterms:modified>
  <cp:revision>10</cp:revision>
  <dc:subject/>
  <dc:title>Ekologie společenstev</dc:title>
</cp:coreProperties>
</file>