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908B-505F-44E9-9D4F-339A2F52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1E7C-16EA-4861-83F7-6A634889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F3F0-B227-4377-899F-C60D4AF8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D446-90B9-4ED3-AA9C-DC2402F0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08D-173E-4642-AB2A-8F3C92BB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BA17-0F2C-416B-B447-A47158AA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C23-78C5-4E69-A3E8-9AAA117C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CD1B-E6F8-40B0-AA4B-7D277623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7CF-466A-476C-9131-8BAD9B00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E5A-1D3E-457C-B333-81D294CC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1C20-8ED2-4E95-AB6E-9C63EA50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B8E0-50E1-45BF-A647-5C0876DB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BD46-1604-4D9B-AEC1-48D798B655A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versi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914400"/>
            <a:ext cx="2895480" cy="3124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914400"/>
            <a:ext cx="2895480" cy="3124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979560" cy="52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979560" cy="520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048120" y="1143000"/>
            <a:ext cx="979200" cy="520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295280" y="2362320"/>
            <a:ext cx="979560" cy="520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362320" y="2057400"/>
            <a:ext cx="979200" cy="520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971800" y="3352680"/>
            <a:ext cx="979560" cy="520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1523880" y="3048120"/>
            <a:ext cx="979560" cy="520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6172200" y="2438280"/>
            <a:ext cx="979560" cy="520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876920" y="1219320"/>
            <a:ext cx="979200" cy="520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2514600" y="2514600"/>
            <a:ext cx="933480" cy="743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6553080" y="3124080"/>
            <a:ext cx="933480" cy="743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4876920" y="1981080"/>
            <a:ext cx="933480" cy="743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2286000" y="1143000"/>
            <a:ext cx="949320" cy="782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5105520" y="2895480"/>
            <a:ext cx="949320" cy="782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5943600" y="1523880"/>
            <a:ext cx="949320" cy="782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6"/>
          <a:stretch/>
        </p:blipFill>
        <p:spPr>
          <a:xfrm>
            <a:off x="6477120" y="1143000"/>
            <a:ext cx="979200" cy="52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43000" y="4800600"/>
                <a:ext cx="280044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pso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14400" y="5797440"/>
                <a:ext cx="33526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´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457200" y="4343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i - relativní zastoupení dru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6172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annonův index d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48769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sonův index dominan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Diversita=1/Simps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315200" y="457200"/>
            <a:ext cx="763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e zde větš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13:39:54Z</dcterms:created>
  <dc:creator>Jan Leps</dc:creator>
  <dc:description/>
  <dc:language>en-US</dc:language>
  <cp:lastModifiedBy>Benjamín Skála</cp:lastModifiedBy>
  <dcterms:modified xsi:type="dcterms:W3CDTF">2005-11-21T18:56:48Z</dcterms:modified>
  <cp:revision>10</cp:revision>
  <dc:subject/>
  <dc:title>Ekologie společenstev</dc:title>
</cp:coreProperties>
</file>